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1D88-62B5-4932-80E8-03DC0F63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BBB-D904-4520-847E-E64AE1F3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04CF-0BBD-43B4-A3FB-9686826B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E3E-18CD-4C22-9B41-7ABD2388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CD76-0468-4776-B729-8E9396AD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AB8-6409-4C17-A0D4-0420EBBD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6ED6-5727-4937-B62F-54528449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117B-C83A-4F4E-9207-68F52DC3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9C06-DDEA-4EB5-B454-796B4FBC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18B-FE03-48FE-AA91-9DFD8D88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3989-6EBA-4C4A-8F4E-D4F28FBB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753-33BF-48C4-BF80-9E8A83FB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D8CE-00C4-43AD-B5D8-0B8354B02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tumblr.com/photo/1280/food-pr0n/17526533602/1/tumblr_lqn1sk044n1qes1zr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www.tumblr.com/photo/1280/food-pr0n/15374860316/1/tumblr_lwrmgbVcKL1r25qir" TargetMode="External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2.bp.blogspot.com/-hjIjuORCqdY/Tmyhdq01qNI/AAAAAAAAAgU/dP9wNvQKH2k/s1600/Chocolate-Mug-Milkshake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7524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andara"/>
              </a:rPr>
              <a:t>Las Comid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Con Cara Acke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90600" y="1838160"/>
            <a:ext cx="476280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1f3e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el desayuno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0320" y="3656880"/>
            <a:ext cx="32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panqueques de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4120" y="4419720"/>
            <a:ext cx="3467160" cy="2309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328800" y="411408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bollos de can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3581640" cy="2384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94000" y="47998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3520" y="4267080"/>
            <a:ext cx="3143160" cy="2295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562720" y="1219320"/>
            <a:ext cx="3381120" cy="2255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19680" y="2971080"/>
            <a:ext cx="32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ándwich de huevo y q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36440" y="61714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hori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657600" y="2514600"/>
            <a:ext cx="21146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8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el almuerzo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543480" cy="2678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19280" y="11422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ándwich de pep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10080" y="1143000"/>
            <a:ext cx="3619800" cy="2417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774560" y="3047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a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Chicken salad sandwich on a croissant, with a side of pasta salad"/>
          <p:cNvPicPr/>
          <p:nvPr/>
        </p:nvPicPr>
        <p:blipFill>
          <a:blip r:embed="rId3"/>
          <a:stretch/>
        </p:blipFill>
        <p:spPr>
          <a:xfrm>
            <a:off x="228600" y="4343400"/>
            <a:ext cx="3543480" cy="2360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80" y="4419000"/>
            <a:ext cx="54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ándwich de pollo ensalada de ensalada de p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562720" y="4343400"/>
            <a:ext cx="3371760" cy="2244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380840" y="4037760"/>
            <a:ext cx="47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ándwich de nutella y crema de cacah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276720" y="1447920"/>
            <a:ext cx="2533680" cy="2533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042080" y="34282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limo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la merienda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2760" y="61714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cere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260680" y="4952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in-my-mouth:&#10;&#10;mozzarella sticks&#10;"/>
          <p:cNvPicPr/>
          <p:nvPr/>
        </p:nvPicPr>
        <p:blipFill>
          <a:blip r:embed="rId2"/>
          <a:stretch/>
        </p:blipFill>
        <p:spPr>
          <a:xfrm>
            <a:off x="304920" y="1143000"/>
            <a:ext cx="3390840" cy="2543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52280" y="3809880"/>
            <a:ext cx="3576600" cy="2824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172200" y="2362320"/>
            <a:ext cx="2755800" cy="4267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715000" y="1143000"/>
            <a:ext cx="3295800" cy="2187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165800" y="61714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duraz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42480" y="28188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ep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2080" y="137160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mozzarella p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 la cena me gusta com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47040" y="388548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ño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486400" y="4368960"/>
            <a:ext cx="3533760" cy="2355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143000"/>
            <a:ext cx="3619440" cy="2295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23280" y="29710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búfalo de p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oohhhbaby:&#10;&#10;homemade lasagna&#10;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4343400"/>
            <a:ext cx="3467160" cy="2295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5360" y="39618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las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095880" y="1143000"/>
            <a:ext cx="2847960" cy="214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253560" y="319968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nsalada con p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3200400" y="2590920"/>
            <a:ext cx="3076560" cy="2377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510360" y="51807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limón Sanpellegr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 me el postre gusta com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295280"/>
            <a:ext cx="2678400" cy="2895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46800" y="137088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hocolate bat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791320" y="3505320"/>
            <a:ext cx="3219480" cy="3047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347000" y="441900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gda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57200" y="4495680"/>
            <a:ext cx="2771640" cy="2081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356640" y="61714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baci bomb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638680" y="1219320"/>
            <a:ext cx="3133800" cy="2079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871240" y="289476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galletas de av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200400" y="2057400"/>
            <a:ext cx="2368440" cy="308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17680" y="5028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22800" y="60192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astel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2:28:08Z</dcterms:created>
  <dc:creator>ackermancar</dc:creator>
  <dc:description/>
  <dc:language>en-US</dc:language>
  <cp:lastModifiedBy>ackermancar</cp:lastModifiedBy>
  <dcterms:modified xsi:type="dcterms:W3CDTF">2012-04-05T14:00:06Z</dcterms:modified>
  <cp:revision>10</cp:revision>
  <dc:subject/>
  <dc:title>Las Comidas</dc:title>
</cp:coreProperties>
</file>